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CD1B-53E7-4EB3-9D45-4F9910A9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0A85-195A-4055-B310-1EE056A6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EFA3-6136-4A65-A547-311DBC13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8C95-524A-40A7-9DC5-DF0646D1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292E-F96F-4730-A67D-742C896C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03A8-CBB3-41E1-A260-7970C472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CD35-D414-4C5D-9EE0-543F2964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ED1-4A91-49E2-86CE-85A03287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447A-019F-4F34-A8FA-9052C5F4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DE91-875D-469E-93DF-E2F0121C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C48D-6121-4246-A851-464CB99C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5143-726E-44DD-BC46-F5B5963C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A0D543-66D6-4C05-A0E4-A5D79C1574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EE068-9912-467F-BC41-E88029520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an FRQ Is Not and 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an FRQ Is N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Essa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riting Focus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mmatically Sco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d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xated on minor dates and fa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mply buzzwor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an FRQ Is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hort answ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tent Focus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o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monstrates processes and concep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ility to fully explain and answer the ques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ways looped back arou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kill driv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16:25:12Z</dcterms:created>
  <dc:creator>Patriot</dc:creator>
  <dc:description/>
  <dc:language>en-US</dc:language>
  <cp:lastModifiedBy>FAdmin</cp:lastModifiedBy>
  <dcterms:modified xsi:type="dcterms:W3CDTF">2011-06-24T16:19:51Z</dcterms:modified>
  <cp:revision>3</cp:revision>
  <dc:subject/>
  <dc:title>What an FRQ Is Not and Is</dc:title>
</cp:coreProperties>
</file>